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DCA-6653-4DCF-A74F-E31EE40F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FF8-FAEA-42B4-9327-CE6E0946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0866-4745-47E0-A816-46AEC95B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C8EF-0E46-496F-9FA2-D9A842D7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C01-C48C-4A2F-BAA5-58E0E636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851E-BC53-40D5-838D-53A25984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EE13-3735-48DB-9BD2-574C3633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E04-0F04-47F4-A5A8-724EE4DD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86D-B60D-4CE3-909F-4601AF03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873-AD7E-4D25-B222-8D2DA0BC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474-1867-4AC1-A4C9-809AE920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B931-B69E-4EA7-B46E-63ED0F8F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2D97-4250-424B-A2D8-CEBD91451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CES ET FAIBLESSES APPA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9906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o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90612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aibl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9:22Z</dcterms:modified>
  <cp:revision>70</cp:revision>
  <dc:subject/>
  <dc:title>Contrôle interne des risques</dc:title>
</cp:coreProperties>
</file>